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791-8E8B-4CE4-8139-9169169B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4AE-A44E-4FDA-A38C-17924176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F58-F980-46C8-B2C6-FF67B413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886-F964-4230-8395-8325E1BD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2F0-28F6-444F-9C71-7E1B20F8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959-8B4C-4923-87D9-BD1982EA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3A3-D692-4B3A-B691-BF756810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DF2-F602-4E0A-8A2C-00390655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387-C559-45F2-8574-F9E93B02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C55-E4A2-4534-A201-2D3A691A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1B2-09C3-47B5-AAF6-CAAFDF18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B20-BDE1-46D1-A88D-AC73A9C9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C6C4-F063-42E6-ACBE-334244C90A49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089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1712880" y="2779560"/>
            <a:ext cx="52056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66600" y="2249640"/>
            <a:ext cx="893772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420840" y="1231920"/>
            <a:ext cx="86500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05:26:30Z</dcterms:created>
  <dc:creator>ESTER</dc:creator>
  <dc:description/>
  <dc:language>en-US</dc:language>
  <cp:lastModifiedBy>ESTER</cp:lastModifiedBy>
  <dcterms:modified xsi:type="dcterms:W3CDTF">2012-07-12T00:10:37Z</dcterms:modified>
  <cp:revision>7</cp:revision>
  <dc:subject/>
  <dc:title>Slide 1</dc:title>
</cp:coreProperties>
</file>